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62E-2222-40EC-8C07-D8B39731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06A-21D9-4476-853C-E6CA5612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D8A-FE97-48EB-9F44-F0EF2521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40E-1334-4CDB-B0BE-C9D47656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9054-63FA-4022-9568-F038E548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64F8-A17C-48B1-8FC0-5B90BD28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8D8B-29FE-4A75-BA81-553585B3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8DBA-88C6-4E4B-936B-D054A20C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CA87-AF5C-46E7-84FA-60AC30B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B48C-FBBD-47C1-B301-5BCBB52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0AD6-5003-46D2-8360-E56A0FE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087-7308-4A1A-8EF3-590F4FCD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CB43-6EAB-4A6D-9F38-E220C9B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BF6-A16F-49FF-ACF3-337462E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7614-49BF-4A04-A1F1-C884915B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4BAC-F852-4B4F-AFCD-6C5274DA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EF1E-2D6B-4568-AC69-568BFEA6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A70-F536-4EA8-99EC-D136013C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9C3-85B5-4384-B07B-9D1928C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7B9-E821-4B22-A006-BA53AA4E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29A-01B5-4EA8-9DEB-6B5ACB3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B9C-6AB6-47D4-BAAE-7B0F658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576-F62D-47E2-B8F0-EE80FEA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4BE-8CBB-44C7-9585-865D0DFB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A586-09F6-4D0C-8AEF-63C29A679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6951-E2D7-4D4D-A9C3-EAA057DE1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ubul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ECO-SCOLARII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Liceul de Stiințe ale Natur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Activități prop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Parcului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lantarea de puieți în gradina școl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ațarea albiei râului ce trece prin locali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cțiuni de colectare a hârti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Invățăm să reciclăm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38200" y="1869840"/>
            <a:ext cx="4191120" cy="4190400"/>
            <a:chOff x="2338200" y="1869840"/>
            <a:chExt cx="4191120" cy="4190400"/>
          </a:xfrm>
        </p:grpSpPr>
        <p:sp>
          <p:nvSpPr>
            <p:cNvPr id="104" name="_s7179"/>
            <p:cNvSpPr/>
            <p:nvPr/>
          </p:nvSpPr>
          <p:spPr>
            <a:xfrm>
              <a:off x="3008160" y="186984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008000"/>
                </a:gs>
              </a:gsLst>
              <a:lin ang="8100000"/>
            </a:gra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7180"/>
            <p:cNvSpPr/>
            <p:nvPr/>
          </p:nvSpPr>
          <p:spPr>
            <a:xfrm rot="5400000">
              <a:off x="3678120" y="253944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cc00"/>
                </a:gs>
                <a:gs pos="100000">
                  <a:srgbClr val="008000"/>
                </a:gs>
              </a:gsLst>
              <a:lin ang="2700000"/>
            </a:gra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7184"/>
            <p:cNvSpPr/>
            <p:nvPr/>
          </p:nvSpPr>
          <p:spPr>
            <a:xfrm rot="10800000">
              <a:off x="3008160" y="3209400"/>
              <a:ext cx="2851200" cy="2850840"/>
            </a:xfrm>
            <a:custGeom>
              <a:avLst/>
              <a:gdLst>
                <a:gd name="textAreaLeft" fmla="*/ 0 w 2851200"/>
                <a:gd name="textAreaRight" fmla="*/ 2851560 w 2851200"/>
                <a:gd name="textAreaTop" fmla="*/ 0 h 2850840"/>
                <a:gd name="textAreaBottom" fmla="*/ 2850840 h 285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8000"/>
                </a:gs>
              </a:gsLst>
              <a:lin ang="189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7182"/>
            <p:cNvSpPr/>
            <p:nvPr/>
          </p:nvSpPr>
          <p:spPr>
            <a:xfrm rot="16200000">
              <a:off x="2338200" y="2539080"/>
              <a:ext cx="2850840" cy="2851200"/>
            </a:xfrm>
            <a:custGeom>
              <a:avLst/>
              <a:gdLst>
                <a:gd name="textAreaLeft" fmla="*/ 0 w 2850840"/>
                <a:gd name="textAreaRight" fmla="*/ 2850840 w 2850840"/>
                <a:gd name="textAreaTop" fmla="*/ 0 h 2851200"/>
                <a:gd name="textAreaBottom" fmla="*/ 2851560 h 285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008000"/>
                </a:gs>
              </a:gsLst>
              <a:lin ang="13500000"/>
            </a:gra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7177"/>
            <p:cNvSpPr/>
            <p:nvPr/>
          </p:nvSpPr>
          <p:spPr>
            <a:xfrm>
              <a:off x="5192640" y="21319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merci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7178"/>
            <p:cNvSpPr/>
            <p:nvPr/>
          </p:nvSpPr>
          <p:spPr>
            <a:xfrm>
              <a:off x="5194080" y="4722480"/>
              <a:ext cx="10749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nsum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7181"/>
            <p:cNvSpPr/>
            <p:nvPr/>
          </p:nvSpPr>
          <p:spPr>
            <a:xfrm>
              <a:off x="2600280" y="2134800"/>
              <a:ext cx="107460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Produca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7183"/>
            <p:cNvSpPr/>
            <p:nvPr/>
          </p:nvSpPr>
          <p:spPr>
            <a:xfrm>
              <a:off x="2603520" y="4725720"/>
              <a:ext cx="1074600" cy="10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Centru de recicla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ffffff"/>
                  </a:solidFill>
                  <a:latin typeface="Arial"/>
                </a:rPr>
                <a:t>a deșeuril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b7"/>
                </a:solidFill>
                <a:latin typeface="Arial Black"/>
              </a:rPr>
              <a:t>Protejați NATURA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pa și rolul ei în viața noastr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3280" y="2637000"/>
            <a:ext cx="4248360" cy="31161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1:07:08Z</dcterms:created>
  <dc:creator>AS</dc:creator>
  <dc:description/>
  <dc:language>en-US</dc:language>
  <cp:lastModifiedBy>AS</cp:lastModifiedBy>
  <dcterms:modified xsi:type="dcterms:W3CDTF">2010-01-06T21:37:20Z</dcterms:modified>
  <cp:revision>4</cp:revision>
  <dc:subject/>
  <dc:title>Clubul  ECO-SCOLARII</dc:title>
</cp:coreProperties>
</file>